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6BF-A45E-4011-BB17-59E18FFF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4D2-8A66-4C5C-8AD5-9942B8E7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C04-DD3A-4ED8-984D-2A0EC924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D1D-7712-402D-8AED-2623C7F9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D444-55B3-486D-83BD-12EC7BA5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DDF5-F9A8-4EC7-B039-1722DBEC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4A4A-38AF-4665-AC5A-6BCB2CF6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57AE-52FE-433E-B3F5-C0CA3518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58CE-162C-4F7D-B99B-658FD86B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E037-E1E1-4BD1-88A8-8A51F3D8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657D-775A-4EDE-9AA2-94633946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7CC-792C-4E9F-B6B1-9FC2FA23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507A-7820-4B48-9F0A-FEA16ACA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2182-FA80-4CDD-AE8C-7AD32F48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65ED-A645-4DF3-A4E9-D8F3E3A6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1E80-8DE0-42EC-AEBB-18274041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0042-415A-4B01-8C66-EC92F9D3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384-34F5-44C0-91D4-798D31FE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B1F-A2C5-4550-80DE-55A1E0C5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A2E-F6AE-499E-ABA2-AA5221BC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552-C677-434C-B112-BF841A0C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94B-3F2F-4BBD-A59A-0E757207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3AE-1D0F-4FF3-A2E6-ACEEA0BA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2E6-421A-471C-8AB0-8E2A3212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6106-6C1E-4642-82B1-9D45B2819E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CDB9-E1AD-44F6-9143-ABB6A01552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Respiratory Syst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0574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h of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586728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4657680" cy="3533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4191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886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Bronchi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2514600"/>
            <a:ext cx="990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Bronc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483080"/>
            <a:ext cx="7391160" cy="24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s that line the bronchi and trachea secrete mucus that traps dust and other particles in the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lveoli are surrounded by capil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510552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ion of the diaphragm and rib cage enlarge the chest cavity and reduce the air pressure in the chest.  Air rushes into the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24280" y="502884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xation of the diaphragm and rib cage collapse the chest cavity and increase the pressure inside the chest.  Air rushes out of the lu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733560" cy="2173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880" y="44956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44197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a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6002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752480"/>
            <a:ext cx="8001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ungs are not made of muscle and cannot contract and rel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moves from an area of high pressure to an area of low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y is it harder to breathe at high altitud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3124080"/>
            <a:ext cx="8229600" cy="31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centration of oxygen is low so that a person has to breathe more deeply and more quickly to take in the same amount of oxygen as a person who is at sea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ir pressure at high altitudes is low, so air is not forced into the lu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943600" y="380880"/>
            <a:ext cx="26668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reathing Ra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35809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demand for oxygen in the blood is high (during exercise) breathing rate incr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aste products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the blood are high breathing rate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8288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he brain sends signals to the diaphragm and rib muscles to speed up breathing under certain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as Exchange and Transpo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021200" cy="461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304920" y="3200400"/>
          <a:ext cx="3961800" cy="2438280"/>
        </p:xfrm>
        <a:graphic>
          <a:graphicData uri="http://schemas.openxmlformats.org/drawingml/2006/table">
            <a:tbl>
              <a:tblPr/>
              <a:tblGrid>
                <a:gridCol w="1709280"/>
                <a:gridCol w="1165320"/>
                <a:gridCol w="108720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80880" y="1523880"/>
            <a:ext cx="38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60020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 is transported bound to hemoglobin inside red blood cells and carbon dioxide is transported in pla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1:24:39Z</dcterms:created>
  <dc:creator>Dawn Pav</dc:creator>
  <dc:description/>
  <dc:language>en-US</dc:language>
  <cp:lastModifiedBy>Dawn Pav</cp:lastModifiedBy>
  <dcterms:modified xsi:type="dcterms:W3CDTF">2009-01-14T03:57:00Z</dcterms:modified>
  <cp:revision>2</cp:revision>
  <dc:subject/>
  <dc:title>The Respiratory System</dc:title>
</cp:coreProperties>
</file>